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52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15.png" ContentType="image/png"/>
  <Override PartName="/ppt/media/image33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2.jpeg" ContentType="image/jpeg"/>
  <Override PartName="/ppt/media/image51.png" ContentType="image/png"/>
  <Override PartName="/ppt/media/image45.jpeg" ContentType="image/jpeg"/>
  <Override PartName="/ppt/media/image46.jpeg" ContentType="image/jpeg"/>
  <Override PartName="/ppt/media/image31.png" ContentType="image/png"/>
  <Override PartName="/ppt/media/image6.png" ContentType="image/png"/>
  <Override PartName="/ppt/media/image47.jpeg" ContentType="image/jpeg"/>
  <Override PartName="/ppt/media/image50.png" ContentType="image/png"/>
  <Override PartName="/ppt/media/image13.png" ContentType="image/png"/>
  <Override PartName="/ppt/media/image41.png" ContentType="image/png"/>
  <Override PartName="/ppt/media/image5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48.png" ContentType="image/png"/>
  <Override PartName="/ppt/media/image11.png" ContentType="image/png"/>
  <Override PartName="/ppt/media/image4.jpeg" ContentType="image/jpeg"/>
  <Override PartName="/ppt/media/image3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7257-7F07-4CA3-A1A8-0888289AB83C}" type="slidenum"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9232-939F-40AE-9FD2-7BF800479399}" type="slidenum"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298D-860D-47B5-9BB1-0DC04B14B66C}" type="slidenum"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C975-B736-4905-B501-D543E1A1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63DB-EC01-4F46-9AB8-672C80E4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B28C-15D8-4AD1-8D8E-B3BC95A5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ADEE-3972-427E-A655-E2345768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C4ED-44B6-4D17-BBEC-41C0574B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0257-0928-41B6-881F-58B325FC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CC8F-FE3E-48F8-9A79-5AB621C2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1927-DF36-4B49-905F-DCEA687A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1AF5-7EDA-42E5-AD3B-20811138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1C7D-2C95-4C37-9C93-044F75A5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31D7-BA3E-4C56-BD81-C2B8A124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FC32-978B-429B-AB7F-AB58DFAD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D213-39D8-4CB3-AB5D-CCB9B3FA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7062-62A4-41D6-93BE-A9AA9032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B7B2-4E0D-443A-A850-983C8616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8226-CBF9-4B13-AC7B-94F61E26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B621-2FDB-4BCB-A086-5C4FE03A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6B9B-2EEC-4093-AAFC-8D111A3A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C3CF-0EB3-461C-8540-6E6B65D3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475C-38F7-4789-BEAD-24F67244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1093-B8D2-4D3A-97A0-33101D1B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9674-9314-4EB7-A6BC-02F0C157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355B-FC3B-40B8-BEEF-E03F2044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927F-68E5-4366-BBDC-502E0AF7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DCD3-0423-4C91-ABE5-8B2CA2E20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ABFB-A27A-4EBF-91AC-B04826034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82072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рок навчання грамоти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у 1 клас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58920" y="2852280"/>
            <a:ext cx="6400800" cy="24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3333cc"/>
                </a:solidFill>
                <a:latin typeface="Times New Roman"/>
              </a:rPr>
              <a:t>Закріплення букви Нн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cc"/>
                </a:solidFill>
                <a:latin typeface="Times New Roman"/>
              </a:rPr>
              <a:t>Велика буква в іменах люд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cc"/>
                </a:solidFill>
                <a:latin typeface="Times New Roman"/>
              </a:rPr>
              <a:t>Диференційований підхід у формуванні навиків читанн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читель Шкель Т. 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655560" y="1285920"/>
            <a:ext cx="7774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Он – он – он  - в зоопарку слон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На – на – на -  бачу сірого сло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Ни – ни – ни – люблять яблука слони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Ну – ну – ну -  дали яблука слон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Ні – ні – ні -  дайте яблук і мен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Ню – ню – ню – дамо яблуко кон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Прямоугольник 2" descr=""/>
          <p:cNvPicPr/>
          <p:nvPr/>
        </p:nvPicPr>
        <p:blipFill>
          <a:blip r:embed="rId1"/>
          <a:stretch/>
        </p:blipFill>
        <p:spPr>
          <a:xfrm>
            <a:off x="1852560" y="42840"/>
            <a:ext cx="59389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Прямоугольник 1" descr=""/>
          <p:cNvPicPr/>
          <p:nvPr/>
        </p:nvPicPr>
        <p:blipFill>
          <a:blip r:embed="rId1"/>
          <a:stretch/>
        </p:blipFill>
        <p:spPr>
          <a:xfrm>
            <a:off x="706320" y="1347840"/>
            <a:ext cx="7731360" cy="431460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2" descr=""/>
          <p:cNvPicPr/>
          <p:nvPr/>
        </p:nvPicPr>
        <p:blipFill>
          <a:blip r:embed="rId2"/>
          <a:stretch/>
        </p:blipFill>
        <p:spPr>
          <a:xfrm>
            <a:off x="1133640" y="328680"/>
            <a:ext cx="58035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3" descr="http://im5-tub-ua.yandex.net/i?id=398254129-15-72&amp;n=21"/>
          <p:cNvPicPr/>
          <p:nvPr/>
        </p:nvPicPr>
        <p:blipFill>
          <a:blip r:embed="rId1"/>
          <a:stretch/>
        </p:blipFill>
        <p:spPr>
          <a:xfrm>
            <a:off x="1000080" y="617400"/>
            <a:ext cx="658008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571680" y="1428840"/>
            <a:ext cx="8286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Не олень він і не б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В краях теплих жити зв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Є на носі в нього ріг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Хто це, друзі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Содержимое 3" descr="http://im8-tub-ua.yandex.net/i?id=411224610-24-72&amp;n=21"/>
          <p:cNvPicPr/>
          <p:nvPr/>
        </p:nvPicPr>
        <p:blipFill>
          <a:blip r:embed="rId1"/>
          <a:stretch/>
        </p:blipFill>
        <p:spPr>
          <a:xfrm>
            <a:off x="857160" y="1285920"/>
            <a:ext cx="72151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857160" y="1643040"/>
            <a:ext cx="807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Times New Roman"/>
              </a:rPr>
              <a:t>Ніс у нього замість кра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Times New Roman"/>
              </a:rPr>
              <a:t>Все підніме і дістан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Times New Roman"/>
              </a:rPr>
              <a:t>Він вантажник і тягач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Times New Roman"/>
              </a:rPr>
              <a:t>Ним керує наглядач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http://im3-tub-ua.yandex.net/i?id=163235652-54-72&amp;n=21"/>
          <p:cNvPicPr/>
          <p:nvPr/>
        </p:nvPicPr>
        <p:blipFill>
          <a:blip r:embed="rId1"/>
          <a:stretch/>
        </p:blipFill>
        <p:spPr>
          <a:xfrm>
            <a:off x="1071720" y="928800"/>
            <a:ext cx="67863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1714680" y="1428840"/>
            <a:ext cx="639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Times New Roman"/>
              </a:rPr>
              <a:t>Сопе, хропе, чхає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Times New Roman"/>
              </a:rPr>
              <a:t>Сюди, туди заглядає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Times New Roman"/>
              </a:rPr>
              <a:t>На морозі замерзає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Times New Roman"/>
              </a:rPr>
              <a:t>Бо одежини немає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http://im0-tub-ua.yandex.net/i?id=120773301-32-72&amp;n=21"/>
          <p:cNvPicPr/>
          <p:nvPr/>
        </p:nvPicPr>
        <p:blipFill>
          <a:blip r:embed="rId1"/>
          <a:stretch/>
        </p:blipFill>
        <p:spPr>
          <a:xfrm>
            <a:off x="2000160" y="1214280"/>
            <a:ext cx="4643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Прямоугольник 1" descr=""/>
          <p:cNvPicPr/>
          <p:nvPr/>
        </p:nvPicPr>
        <p:blipFill>
          <a:blip r:embed="rId1"/>
          <a:stretch/>
        </p:blipFill>
        <p:spPr>
          <a:xfrm>
            <a:off x="1901880" y="182520"/>
            <a:ext cx="4322880" cy="11034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2"/>
          <p:cNvSpPr/>
          <p:nvPr/>
        </p:nvSpPr>
        <p:spPr>
          <a:xfrm>
            <a:off x="785880" y="1214280"/>
            <a:ext cx="807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Всі із-за парт встаньте враз 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Фізкультпауза у нас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Рисунок 3" descr="http://im7-tub-ua.yandex.net/i?id=61583137-16-72&amp;n=21"/>
          <p:cNvPicPr/>
          <p:nvPr/>
        </p:nvPicPr>
        <p:blipFill>
          <a:blip r:embed="rId2"/>
          <a:stretch/>
        </p:blipFill>
        <p:spPr>
          <a:xfrm>
            <a:off x="1500120" y="2643120"/>
            <a:ext cx="64296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uk-UA" sz="3000" spc="-1" strike="noStrike">
                <a:solidFill>
                  <a:srgbClr val="3333cc"/>
                </a:solidFill>
                <a:latin typeface="Times New Roman"/>
              </a:rPr>
              <a:t>Зі мною будете грати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0" lang="uk-UA" sz="3000" spc="-1" strike="noStrike">
                <a:solidFill>
                  <a:srgbClr val="3333cc"/>
                </a:solidFill>
                <a:latin typeface="Times New Roman"/>
              </a:rPr>
              <a:t>що вивчали повторяти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uk-UA" sz="3000" spc="-1" strike="noStrike">
                <a:solidFill>
                  <a:srgbClr val="00cc99"/>
                </a:solidFill>
                <a:latin typeface="Times New Roman"/>
              </a:rPr>
              <a:t>Гра “Так” чи “Ні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Зіграти хочеться мені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З тобою, друже, в “Так” чи “Ні”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Тобі питання задаю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Готуй же відповідь свою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Відповідай коли мастак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Чи “Ні”, чи “Так”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1476360" y="404640"/>
            <a:ext cx="5832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пелюстка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1" descr="http://im8-tub-ua.yandex.net/i?id=306165161-22-72&amp;n=21"/>
          <p:cNvPicPr/>
          <p:nvPr/>
        </p:nvPicPr>
        <p:blipFill>
          <a:blip r:embed="rId1"/>
          <a:stretch/>
        </p:blipFill>
        <p:spPr>
          <a:xfrm>
            <a:off x="1714680" y="214200"/>
            <a:ext cx="7215120" cy="3929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2428920" y="4286160"/>
            <a:ext cx="4092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Дід – дивується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Баба - журитьс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2714760" y="357120"/>
            <a:ext cx="497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Колобки – котятьс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Рисунок 2" descr="http://im2-tub-ua.yandex.net/i?id=368599155-26-72&amp;n=21"/>
          <p:cNvPicPr/>
          <p:nvPr/>
        </p:nvPicPr>
        <p:blipFill>
          <a:blip r:embed="rId1"/>
          <a:stretch/>
        </p:blipFill>
        <p:spPr>
          <a:xfrm>
            <a:off x="1500120" y="1071720"/>
            <a:ext cx="5572080" cy="33573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"/>
          <p:cNvSpPr/>
          <p:nvPr/>
        </p:nvSpPr>
        <p:spPr>
          <a:xfrm>
            <a:off x="1714680" y="4714920"/>
            <a:ext cx="611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Зайці - чеберяю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1285920" y="714240"/>
            <a:ext cx="671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Ведмеді - чвалаю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Рисунок 2" descr="http://im8-tub-ua.yandex.net/i?id=201990570-37-72&amp;n=21"/>
          <p:cNvPicPr/>
          <p:nvPr/>
        </p:nvPicPr>
        <p:blipFill>
          <a:blip r:embed="rId1"/>
          <a:stretch/>
        </p:blipFill>
        <p:spPr>
          <a:xfrm>
            <a:off x="1214280" y="1428840"/>
            <a:ext cx="628668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2357280" y="571680"/>
            <a:ext cx="47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Вовки - гасаю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Рисунок 2" descr="http://im0-tub-ua.yandex.net/i?id=474654816-67-72&amp;n=21"/>
          <p:cNvPicPr/>
          <p:nvPr/>
        </p:nvPicPr>
        <p:blipFill>
          <a:blip r:embed="rId1"/>
          <a:stretch/>
        </p:blipFill>
        <p:spPr>
          <a:xfrm>
            <a:off x="1643040" y="1500120"/>
            <a:ext cx="57866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1571760" y="642960"/>
            <a:ext cx="659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Лисиці - глузую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Рисунок 2" descr="http://im8-tub-ua.yandex.net/i?id=459298060-40-72&amp;n=21"/>
          <p:cNvPicPr/>
          <p:nvPr/>
        </p:nvPicPr>
        <p:blipFill>
          <a:blip r:embed="rId1"/>
          <a:stretch/>
        </p:blipFill>
        <p:spPr>
          <a:xfrm>
            <a:off x="1928880" y="1500120"/>
            <a:ext cx="54291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http://im8-tub-ua.yandex.net/i?id=306165161-22-72&amp;n=21"/>
          <p:cNvPicPr/>
          <p:nvPr/>
        </p:nvPicPr>
        <p:blipFill>
          <a:blip r:embed="rId1"/>
          <a:stretch/>
        </p:blipFill>
        <p:spPr>
          <a:xfrm>
            <a:off x="2143080" y="0"/>
            <a:ext cx="7000920" cy="44290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2286000" y="4357800"/>
            <a:ext cx="428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Дід дивується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Баба журитьс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Прямоугольник 1" descr=""/>
          <p:cNvPicPr/>
          <p:nvPr/>
        </p:nvPicPr>
        <p:blipFill>
          <a:blip r:embed="rId1"/>
          <a:stretch/>
        </p:blipFill>
        <p:spPr>
          <a:xfrm>
            <a:off x="1901880" y="182520"/>
            <a:ext cx="4322880" cy="110340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2" descr=""/>
          <p:cNvPicPr/>
          <p:nvPr/>
        </p:nvPicPr>
        <p:blipFill>
          <a:blip r:embed="rId2"/>
          <a:stretch/>
        </p:blipFill>
        <p:spPr>
          <a:xfrm>
            <a:off x="420840" y="1255680"/>
            <a:ext cx="872964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i?id=193397590-25-72&amp;n=21"/>
          <p:cNvPicPr/>
          <p:nvPr/>
        </p:nvPicPr>
        <p:blipFill>
          <a:blip r:embed="rId1"/>
          <a:stretch/>
        </p:blipFill>
        <p:spPr>
          <a:xfrm>
            <a:off x="0" y="0"/>
            <a:ext cx="3500280" cy="3071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i?id=143674893-20-72&amp;n=21"/>
          <p:cNvPicPr/>
          <p:nvPr/>
        </p:nvPicPr>
        <p:blipFill>
          <a:blip r:embed="rId2"/>
          <a:stretch/>
        </p:blipFill>
        <p:spPr>
          <a:xfrm>
            <a:off x="4500720" y="1643040"/>
            <a:ext cx="4429080" cy="3286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i?id=297531646-41-72&amp;n=21"/>
          <p:cNvPicPr/>
          <p:nvPr/>
        </p:nvPicPr>
        <p:blipFill>
          <a:blip r:embed="rId3"/>
          <a:stretch/>
        </p:blipFill>
        <p:spPr>
          <a:xfrm>
            <a:off x="642960" y="3143160"/>
            <a:ext cx="3714840" cy="33577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3500280" y="571680"/>
            <a:ext cx="357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Times New Roman"/>
              </a:rPr>
              <a:t>Шипшина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i?id=467907952-25-72&amp;n=21"/>
          <p:cNvPicPr/>
          <p:nvPr/>
        </p:nvPicPr>
        <p:blipFill>
          <a:blip r:embed="rId1"/>
          <a:stretch/>
        </p:blipFill>
        <p:spPr>
          <a:xfrm>
            <a:off x="0" y="0"/>
            <a:ext cx="4286160" cy="3286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103312637_ryabina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5072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i?id=150889985-64-72&amp;n=21"/>
          <p:cNvPicPr/>
          <p:nvPr/>
        </p:nvPicPr>
        <p:blipFill>
          <a:blip r:embed="rId3"/>
          <a:stretch/>
        </p:blipFill>
        <p:spPr>
          <a:xfrm>
            <a:off x="0" y="3500280"/>
            <a:ext cx="4214880" cy="33577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4071960" y="5286240"/>
            <a:ext cx="44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Горобина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i?id=56333457-56-72&amp;n=21"/>
          <p:cNvPicPr/>
          <p:nvPr/>
        </p:nvPicPr>
        <p:blipFill>
          <a:blip r:embed="rId1"/>
          <a:stretch/>
        </p:blipFill>
        <p:spPr>
          <a:xfrm>
            <a:off x="0" y="0"/>
            <a:ext cx="3286080" cy="307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slovo_pic"/>
          <p:cNvPicPr/>
          <p:nvPr/>
        </p:nvPicPr>
        <p:blipFill>
          <a:blip r:embed="rId2"/>
          <a:stretch/>
        </p:blipFill>
        <p:spPr>
          <a:xfrm>
            <a:off x="3286080" y="714240"/>
            <a:ext cx="5857920" cy="578664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 3" descr=""/>
          <p:cNvPicPr/>
          <p:nvPr/>
        </p:nvPicPr>
        <p:blipFill>
          <a:blip r:embed="rId3"/>
          <a:stretch/>
        </p:blipFill>
        <p:spPr>
          <a:xfrm>
            <a:off x="1279440" y="2419200"/>
            <a:ext cx="1397160" cy="46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254240" y="836640"/>
            <a:ext cx="663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Гра “Давайте пригадаємо 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286000" y="1557360"/>
            <a:ext cx="685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Чим відрізняється буква від звук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- Назвіть всі вивчені звук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- Назвіть голосні звук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- Які приголосні звуки ми вивчил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- Чим відрізняться приголосні звуки від голосних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i?id=206553280-70-72&amp;n=21"/>
          <p:cNvPicPr/>
          <p:nvPr/>
        </p:nvPicPr>
        <p:blipFill>
          <a:blip r:embed="rId1"/>
          <a:stretch/>
        </p:blipFill>
        <p:spPr>
          <a:xfrm>
            <a:off x="571680" y="2000160"/>
            <a:ext cx="4071600" cy="3714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i?id=4096214-57-72&amp;n=21"/>
          <p:cNvPicPr/>
          <p:nvPr/>
        </p:nvPicPr>
        <p:blipFill>
          <a:blip r:embed="rId2"/>
          <a:stretch/>
        </p:blipFill>
        <p:spPr>
          <a:xfrm>
            <a:off x="5286240" y="3143160"/>
            <a:ext cx="3643560" cy="35719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2071800" y="571680"/>
            <a:ext cx="30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Снігур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d181d0bdd196d0b3d183d180-4"/>
          <p:cNvPicPr/>
          <p:nvPr/>
        </p:nvPicPr>
        <p:blipFill>
          <a:blip r:embed="rId3"/>
          <a:stretch/>
        </p:blipFill>
        <p:spPr>
          <a:xfrm>
            <a:off x="5143680" y="214200"/>
            <a:ext cx="4000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&amp;rcy;&amp;yacy;&amp;bcy;&amp;icy;&amp;ncy;&amp;acy;, &amp;ncy;&amp;acy; &amp;vcy;&amp;iecy;&amp;tcy;&amp;kcy;&amp;iecy;, &amp;Pcy;&amp;tcy;&amp;icy;&amp;tscy;&amp;acy;, &amp;yacy;&amp;gcy;&amp;ocy;&amp;dcy;&amp;acy;, &amp;dcy;&amp;rcy;&amp;ocy;&amp;zcy;&amp;dcy;"/>
          <p:cNvPicPr/>
          <p:nvPr/>
        </p:nvPicPr>
        <p:blipFill>
          <a:blip r:embed="rId1"/>
          <a:stretch/>
        </p:blipFill>
        <p:spPr>
          <a:xfrm>
            <a:off x="0" y="0"/>
            <a:ext cx="4214880" cy="350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&amp;dcy;&amp;rcy;&amp;ocy;&amp;zcy;&amp;dcy;, &amp;pcy;&amp;tcy;&amp;icy;&amp;tscy;&amp;acy;, &amp;scy;&amp;tcy;&amp;rcy;&amp;acy;&amp;ncy;&amp;scy;&amp;tcy;&amp;vcy;&amp;ucy;&amp;yucy;&amp;shchcy;&amp;icy;&amp;jcy;"/>
          <p:cNvPicPr/>
          <p:nvPr/>
        </p:nvPicPr>
        <p:blipFill>
          <a:blip r:embed="rId2"/>
          <a:stretch/>
        </p:blipFill>
        <p:spPr>
          <a:xfrm>
            <a:off x="4500720" y="2643120"/>
            <a:ext cx="4643280" cy="3857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[&amp;fcy;&amp;ocy;&amp;tcy;&amp;ocy;]"/>
          <p:cNvPicPr/>
          <p:nvPr/>
        </p:nvPicPr>
        <p:blipFill>
          <a:blip r:embed="rId3"/>
          <a:stretch/>
        </p:blipFill>
        <p:spPr>
          <a:xfrm>
            <a:off x="0" y="3786120"/>
            <a:ext cx="4214880" cy="30718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4"/>
          <p:cNvSpPr/>
          <p:nvPr/>
        </p:nvSpPr>
        <p:spPr>
          <a:xfrm>
            <a:off x="4857840" y="1428840"/>
            <a:ext cx="30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Дрізд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Прямоугольник 1" descr=""/>
          <p:cNvPicPr/>
          <p:nvPr/>
        </p:nvPicPr>
        <p:blipFill>
          <a:blip r:embed="rId1"/>
          <a:stretch/>
        </p:blipFill>
        <p:spPr>
          <a:xfrm>
            <a:off x="1987560" y="542880"/>
            <a:ext cx="4321080" cy="11034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2"/>
          <p:cNvSpPr/>
          <p:nvPr/>
        </p:nvSpPr>
        <p:spPr>
          <a:xfrm>
            <a:off x="1214280" y="1714680"/>
            <a:ext cx="687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Times New Roman"/>
              </a:rPr>
              <a:t>Гарно всі читаємо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Times New Roman"/>
              </a:rPr>
              <a:t>Текст новий вивчаємо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i?id=484436971-16-72&amp;n=21"/>
          <p:cNvPicPr/>
          <p:nvPr/>
        </p:nvPicPr>
        <p:blipFill>
          <a:blip r:embed="rId2"/>
          <a:stretch/>
        </p:blipFill>
        <p:spPr>
          <a:xfrm>
            <a:off x="0" y="3214800"/>
            <a:ext cx="3929040" cy="36432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3214800" y="3571920"/>
            <a:ext cx="64008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Кетяг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пучок ягід або квіті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на одній гілці, стеблі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китиця, грон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Прямоугольник 1" descr=""/>
          <p:cNvPicPr/>
          <p:nvPr/>
        </p:nvPicPr>
        <p:blipFill>
          <a:blip r:embed="rId1"/>
          <a:stretch/>
        </p:blipFill>
        <p:spPr>
          <a:xfrm>
            <a:off x="2066760" y="469800"/>
            <a:ext cx="4327560" cy="11034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2"/>
          <p:cNvSpPr/>
          <p:nvPr/>
        </p:nvSpPr>
        <p:spPr>
          <a:xfrm>
            <a:off x="500040" y="1714680"/>
            <a:ext cx="900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Times New Roman"/>
              </a:rPr>
              <a:t>Осінь дуже я любл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Times New Roman"/>
              </a:rPr>
              <a:t>Осінній віршик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Times New Roman"/>
              </a:rPr>
              <a:t>прочитать прош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Прямоугольник 1" descr=""/>
          <p:cNvPicPr/>
          <p:nvPr/>
        </p:nvPicPr>
        <p:blipFill>
          <a:blip r:embed="rId1"/>
          <a:stretch/>
        </p:blipFill>
        <p:spPr>
          <a:xfrm>
            <a:off x="-85680" y="957240"/>
            <a:ext cx="936288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Прямоугольник 1" descr=""/>
          <p:cNvPicPr/>
          <p:nvPr/>
        </p:nvPicPr>
        <p:blipFill>
          <a:blip r:embed="rId1"/>
          <a:stretch/>
        </p:blipFill>
        <p:spPr>
          <a:xfrm>
            <a:off x="993600" y="1328760"/>
            <a:ext cx="76140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Прямоугольник 1" descr=""/>
          <p:cNvPicPr/>
          <p:nvPr/>
        </p:nvPicPr>
        <p:blipFill>
          <a:blip r:embed="rId1"/>
          <a:stretch/>
        </p:blipFill>
        <p:spPr>
          <a:xfrm>
            <a:off x="633240" y="2255760"/>
            <a:ext cx="8821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2916360" y="333360"/>
            <a:ext cx="3311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9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 пелюстка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635280" y="2565360"/>
            <a:ext cx="52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Дружно, швидко вимовляй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Артикуляційні вправи промовляй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1.“Годинник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Рисунок 22" descr=""/>
          <p:cNvPicPr/>
          <p:nvPr/>
        </p:nvPicPr>
        <p:blipFill>
          <a:blip r:embed="rId2"/>
          <a:stretch/>
        </p:blipFill>
        <p:spPr>
          <a:xfrm>
            <a:off x="0" y="1844640"/>
            <a:ext cx="40006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33" descr=""/>
          <p:cNvPicPr/>
          <p:nvPr/>
        </p:nvPicPr>
        <p:blipFill>
          <a:blip r:embed="rId1"/>
          <a:stretch/>
        </p:blipFill>
        <p:spPr>
          <a:xfrm>
            <a:off x="1317600" y="1295280"/>
            <a:ext cx="7286760" cy="450720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2" descr=""/>
          <p:cNvPicPr/>
          <p:nvPr/>
        </p:nvPicPr>
        <p:blipFill>
          <a:blip r:embed="rId2"/>
          <a:stretch/>
        </p:blipFill>
        <p:spPr>
          <a:xfrm>
            <a:off x="1249200" y="249120"/>
            <a:ext cx="699948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27" descr=""/>
          <p:cNvPicPr/>
          <p:nvPr/>
        </p:nvPicPr>
        <p:blipFill>
          <a:blip r:embed="rId1"/>
          <a:stretch/>
        </p:blipFill>
        <p:spPr>
          <a:xfrm>
            <a:off x="1643040" y="1500120"/>
            <a:ext cx="6429240" cy="492912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2" descr=""/>
          <p:cNvPicPr/>
          <p:nvPr/>
        </p:nvPicPr>
        <p:blipFill>
          <a:blip r:embed="rId2"/>
          <a:stretch/>
        </p:blipFill>
        <p:spPr>
          <a:xfrm>
            <a:off x="1322280" y="324000"/>
            <a:ext cx="671220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29" descr=""/>
          <p:cNvPicPr/>
          <p:nvPr/>
        </p:nvPicPr>
        <p:blipFill>
          <a:blip r:embed="rId1"/>
          <a:stretch/>
        </p:blipFill>
        <p:spPr>
          <a:xfrm>
            <a:off x="928800" y="1214280"/>
            <a:ext cx="6643440" cy="471492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2" descr=""/>
          <p:cNvPicPr/>
          <p:nvPr/>
        </p:nvPicPr>
        <p:blipFill>
          <a:blip r:embed="rId2"/>
          <a:stretch/>
        </p:blipFill>
        <p:spPr>
          <a:xfrm>
            <a:off x="2567160" y="255600"/>
            <a:ext cx="42973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21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7358040" cy="528624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3" descr=""/>
          <p:cNvPicPr/>
          <p:nvPr/>
        </p:nvPicPr>
        <p:blipFill>
          <a:blip r:embed="rId2"/>
          <a:stretch/>
        </p:blipFill>
        <p:spPr>
          <a:xfrm>
            <a:off x="1889280" y="328680"/>
            <a:ext cx="445608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9" descr=""/>
          <p:cNvPicPr/>
          <p:nvPr/>
        </p:nvPicPr>
        <p:blipFill>
          <a:blip r:embed="rId1"/>
          <a:stretch/>
        </p:blipFill>
        <p:spPr>
          <a:xfrm>
            <a:off x="0" y="1428840"/>
            <a:ext cx="3071880" cy="41432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0" descr=""/>
          <p:cNvPicPr/>
          <p:nvPr/>
        </p:nvPicPr>
        <p:blipFill>
          <a:blip r:embed="rId2"/>
          <a:stretch/>
        </p:blipFill>
        <p:spPr>
          <a:xfrm>
            <a:off x="3143160" y="1571760"/>
            <a:ext cx="5643720" cy="528624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3" descr=""/>
          <p:cNvPicPr/>
          <p:nvPr/>
        </p:nvPicPr>
        <p:blipFill>
          <a:blip r:embed="rId3"/>
          <a:stretch/>
        </p:blipFill>
        <p:spPr>
          <a:xfrm>
            <a:off x="920880" y="109440"/>
            <a:ext cx="701676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9:31:32Z</dcterms:created>
  <dc:creator>qwerty</dc:creator>
  <dc:description/>
  <cp:keywords>шаблоны для презентаций</cp:keywords>
  <dc:language>en-US</dc:language>
  <cp:lastModifiedBy>пк</cp:lastModifiedBy>
  <dcterms:modified xsi:type="dcterms:W3CDTF">2013-11-05T20:26:05Z</dcterms:modified>
  <cp:revision>16</cp:revision>
  <dc:subject/>
  <dc:title>фон облака</dc:title>
</cp:coreProperties>
</file>